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3F9-9338-4987-8000-387080C3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94D-536B-40EC-A690-D591DFEA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3F686-C402-4637-9F78-271FDB9D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FF840-181A-4F1E-B2E0-94C3E04C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B8883-B156-47BD-B606-90CEE3D2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A80DC-9485-4541-857B-3B151A13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851E7-2DB3-4473-A164-F2485A03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4901F-6AEF-4BA1-9A36-4F0092E0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75533-5561-43E0-8A84-C875767C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D30CC-8178-4FFC-896F-A235A73E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61133-F5B7-4B09-A61F-D16C0516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0D5EB-02DD-4014-BD3E-99BE58B1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6D2-F33C-45E3-965B-055C9A83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BC008-3204-46D6-B42C-5CCF3F6B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237BE-CCD9-4E29-8BE9-618CA7F7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04FA1-B4D0-4503-BE6F-7D31E101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3A660-41EF-4AC3-B09C-96CBBCBE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958C6-62CD-4DF7-B5BB-DE45BFC0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7A516-BE6B-4114-84D7-109D3A29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B8E2C-6BFF-482B-9BC7-5704676B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CD4B4-25FD-4DDB-968F-D6F7BFF4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AD262-8891-4C4A-BE06-51D9BC5F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D0806-76A9-4DA5-811B-0B4363CA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76F-33AF-4368-80CE-D3DD19E0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5DC7D-6FA9-4D0A-B71B-6AD428D6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17690-CC67-4079-AC53-3A0F5CF2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CC144-9802-4F1D-B999-9BDCBE05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C6A96-0A85-45BC-8CE3-7A9FEC1C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C4BA0-E7EE-4D5B-9BD6-BD49BFB7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8DA90-90B4-426C-BF0A-431ADD39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A64AF-B8DC-47C6-9CE0-15ADD90D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4D806-C116-442C-B658-9C4C634B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058CE-4845-4840-89F9-E86A4131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93BFE-6462-4FCC-828B-51A291AC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D881-7FA5-45C6-9892-1A1484E6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B9535-9618-4371-88EF-58FD411F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2E7D2-316A-402F-9F88-7C46A095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C4CFD-A6B3-4F4B-BB09-3772F198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2F219-7B49-46D2-9E45-5E984A9B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84B9D-7BC8-4A41-8153-E464995C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03C18-9C1E-4AA3-8EAD-68CE4A4F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6301A-963C-4AF0-AFE7-430C6257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50E8D-09AD-47CF-9807-28DD4315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5C3EE-C270-4128-8411-CB94CE60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21DA4-1D22-469D-B172-B8D61661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CC16-E320-4966-BE71-8C74A90E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85426-3769-46BC-A4F3-3A3047A7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23311-C7F9-4C03-8137-F588FB18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58C77-4EE2-419D-A238-8DCA308C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7F63D-CA15-4821-9F56-F0CAC6AC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74D54-CF81-46B5-BFED-8394AE59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C5E8-797E-473D-A879-4F4454EF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EF18-C13C-43AF-9853-4C99F0F3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3E5D-0F56-4170-A989-F79062DC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379A-991F-4ECF-9D11-B7A97DF6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9892-C9B9-487A-8DAB-EB86D70C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092-C9C0-4ABF-A4C0-14EF3156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1B21-3E35-418D-9D0A-DB244788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ADB7-A127-4D00-9E87-006C8670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5B8C-7A5E-4150-873B-4228053E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0E1C-1CD5-4D33-9EB4-E3EA0997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C671-7A9C-49C4-9855-9B6C20F2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1047E-D8A4-450B-8D76-E4E2057D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C8F49-4F75-4C07-8ABC-ED118ADC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0C27-78F1-4A4A-BDF5-31D70955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AE98-65EB-4780-BDBF-41836047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9837-6C23-4F98-8C6C-4807A25E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532-ADC8-43E0-B281-00BC2BA3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CC940-2543-48C0-8EB7-6FE532FB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55EFD-DC06-4B56-A0F1-32DB9E67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073A8-AE7C-44AB-9FB7-58B125E2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BE2F-24A3-4F86-9300-A7150EFB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D7A95-3049-4D97-A90F-110C6C09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620F-8E59-4C2F-B929-883F2F16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1E2F-6521-40EC-A9EF-4B05A4CB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B2D72-EB6A-4194-8D8A-FADBF0A3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C2D4E-52CF-47B4-9B99-D8AAFA47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E06A9-08F6-4C91-AD1D-31340FAC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31A-EDEE-4A82-82A1-8EB7B632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AB8F0-8ADC-46C2-B936-33AD90BF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71F92-B982-492E-B96D-90A7770B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17E01-89AB-47C8-BC52-A6F606A4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6560E-EDBB-4284-A9FF-81362669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C2D7-D2B1-49B6-8488-12D5A61E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2F885-DA06-4B01-BC67-737EC68A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F84DB-9DC4-4D3E-93A8-753D6DB5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BE83-F581-4A97-BFC5-904D16E2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4B8C-4771-4C50-85ED-6EF9FDB1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FE953-2032-474D-BA16-33077922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CDF-F3E1-4A29-A59D-A61E4357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53AC-6196-4719-A23A-8E99EC64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41174-59E1-4A07-A797-A6BA4CB7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B051A-4734-4F69-8966-9E8D5F49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3CD38-35EB-41E2-AC9A-4971EAB6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DF3A0-CBE6-4F41-922B-03B9811C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8F087-FE84-4458-A52B-BC3D80A8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0CA9B-6C4D-4B39-BA24-93D06231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823C9-2E15-43B9-8102-55FEF7AE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CE2C2-EFC1-4A5D-9128-50644FF9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F64A3-E365-43D7-A5C1-81616BC8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0E8-59D0-4878-B88F-3EE6A161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BC0D-A89C-43B5-A0D7-B3FC582C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3C449-A9F7-4B76-B98B-BBA5BF6C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E7C98-55B7-49A4-A838-DDB1FE05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F6E76-8E92-42C3-B5C7-D8E3D1E2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78E8B-0DB7-4D1E-9053-4788C448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6041F-EF1C-43BB-9C6B-5F9EB04A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24EAB-7209-44E3-A245-CC3F10F3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9A62B-3663-4FA4-A19A-685068F3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D1F53-51C3-4B57-8E96-43B26A52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5D3D2-E278-4BAE-ABC0-0CAB6DF9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313-660A-4195-BBD5-62441EA4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22EDA-1F0D-458E-9B3C-4EB677BC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4DB8B-3DBA-4EB5-9EC8-704BDC00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A45D0-F038-4711-867C-5E1B99FE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2E7C2-DFFA-437C-8613-B0AFE86C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4D19B-576D-48FE-A8EF-C7085F26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4FE60-E964-40D9-8103-8F8EF50B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D8D10-3390-4232-9BDD-0002B4F5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44FE8-CD13-44AB-9218-6B7F0E49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8F5BA-F197-41AD-9658-D50D3619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42DB9-E3D5-48F3-AD3E-0397E963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209-6F6C-4F96-AA67-A9AC5F2F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E7AC4-E01D-4912-9A63-EBC60BD6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32723-E00B-4AF2-A81B-35F3EB10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C34DC-2A6E-492F-A0F6-6050B6B3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34F05-1BAF-4A9B-9B55-838EE5E1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0DF5F-7341-410A-9FE2-7841070B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98DCD-0A90-4FF1-8C62-0502C3AE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EEA5A-1BB6-453F-AFA6-E39D924A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2CE1D-C78F-4821-A58D-C437DC8C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9226F-494B-4E42-9042-1FBDDA94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5D98A-ED9F-4033-9AD6-77D78DCD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2E9-A00C-4798-BDFE-3117F384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E2212-C21C-4EAE-B4DD-97DA430E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73557-D288-47CB-841F-7D8297A5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E4977-1920-4599-BCEB-00D2E84C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A3C1E-A97B-4C7F-8242-0D12CE7E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B409C-F84F-4174-9D2C-0104D1C9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93D05-8553-4319-82E0-AE65E8F8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BEAFE-DCD0-4898-9B6C-5A433CBF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AC5B8-94C1-463E-8682-6B07F52F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5777C-B82D-45E5-AF4A-45BB0D8E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D647E-E775-4E61-930F-56C7D786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39C0-71CC-41F0-9A11-C8D0CDFAA5C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5E58-0BF4-4026-97A9-DD2548CB13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6A59-188F-452F-A2C9-F21C853FDC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FDDE-64D5-41C9-B8DC-A8A240C3A2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4323-84F6-496A-8335-F42B055A04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DF50-673C-4DAD-B5A7-6706CB708F1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91C1-4F9D-4689-80C9-226E5E4C77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5527-F29C-4C51-9FD7-0F6E22652F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EEF6-975C-4108-9E1B-A8B45C5C6F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7587-2949-497E-AC22-B1BD48BCD6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8634-413A-44FE-BC40-984777F0BD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D72E-5218-4873-8A6A-EFEA43D879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35 Pán Ježiš je prediv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chran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bezmedzne žehná 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aždý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k láskavý otec len vi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šetko, čo dosiaľ 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milosti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z úst mojich veleba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 mrákavách žiariv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lom mi bo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ešil ma, uzdravil z 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z úzkosti zo strac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ytrho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z vďačnosti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blíži sa nádher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ítania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v sláve a moci má prí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 svadobnom rúch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dá mi on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u v ústrety radostne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 mrákavách žiariv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lom mi bo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ešil ma, uzdravil z 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z úzkosti zo strac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ytrho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je prediv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chranca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zo mňa sňal bremeno ví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spasenia večné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stotu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j zárukou je 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 mrákavách žiariv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lom mi bo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ešil ma, uzdravil z 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z úzkosti zo strac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ytrho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z vďačnosti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únavou pad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dvíha ma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ríž môj mi pomáha nie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zlého sa obá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usím u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svet chce m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hriechu z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 mrákavách žiariv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lom mi bo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ešil ma, uzdravil z 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z úzkosti zo strac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ytrho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z vďačnosti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6:00:15Z</dcterms:modified>
  <cp:revision>21</cp:revision>
  <dc:subject/>
  <dc:title>Je veľký náš Pán, on slávy je Kráľ Nech do všetkých strán  spev vrúcnych znie chvál.</dc:title>
</cp:coreProperties>
</file>